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935-7FB5-4E9C-AC6C-D0E7F250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084-491C-4FFD-AD2E-598DA55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05F-A723-46C3-9435-DF2DB3BF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22E-FF20-4BF6-B2EE-F361C2FA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319-57C7-4DD4-B1AE-C776EAC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2FA-9151-4E5D-8E8B-F52BC3F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6D3-8506-4DC2-9B10-0843925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F7B-6244-4534-B112-8662D813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196-FDE3-46D8-B098-E84E99AC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F81-B881-4088-9A42-274415D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ED7-A07A-40F1-9A31-DC09C8B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EA1-65A9-476A-B25F-07BEDBD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686-0E57-42DE-B857-344AFF0F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Free Th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ordan Proff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632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3817800"/>
            <a:ext cx="3048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 boys who play basketball make more free throws than boys who don’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predict that boys will make more free throws than girls because we have a better form and are stro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ketball( women’s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n, Scott, Cody, 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eb, Henry, Cole,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r and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285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830680"/>
            <a:ext cx="4038480" cy="402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114800" y="3532320"/>
            <a:ext cx="50292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5:31Z</dcterms:created>
  <dc:creator>USD376</dc:creator>
  <dc:description/>
  <dc:language>en-US</dc:language>
  <cp:lastModifiedBy>STERLING  USD376</cp:lastModifiedBy>
  <dcterms:modified xsi:type="dcterms:W3CDTF">2010-05-03T14:31:58Z</dcterms:modified>
  <cp:revision>16</cp:revision>
  <dc:subject/>
  <dc:title>Science Fair Project</dc:title>
</cp:coreProperties>
</file>